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67DA-F91B-47FD-B74B-11E1E6736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B483-364D-440A-B4DC-E8B34FE79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1B0C-380A-46C4-BAD5-D91CAAEEB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42FB-60E8-46C4-99E3-B3226A897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C7E4-9E0B-42B9-9B0C-7C8606738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9834-B6A6-43F3-9DC1-124DAF626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4D0C-6489-4627-8E41-B9F902742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E5A8-211C-47C5-AD9B-6A4D43CEF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91FD5-89C5-4FEA-9DFB-F11B14B9D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0E1C3-DA63-43BC-B677-7AC5C66B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42F09-00BC-4A34-B597-3F6706D59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7DB4B-5C4A-4A7A-B8CF-7107EA783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E4BA3-FD89-4926-9F9F-B9D260671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C514E-E723-4974-96EC-6C94DEA7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605FE-616A-482E-805C-E6B410600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38328-9BC8-47CB-8D93-2B9ED39E6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D0493-35A9-4E9D-B2D8-7E809ED1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D3D0-D432-46EC-9164-113A25FE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55BB-9E95-4EFA-915A-2C38B8B6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46BD-ED0E-4D46-AC9B-214A7B7F3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E02B-771E-4CA6-902E-60401C18A6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ule 8 </a:t>
            </a:r>
            <a:br>
              <a:rPr sz="4400"/>
            </a:br>
            <a:r>
              <a:rPr b="0" lang="en-US" sz="4400" spc="-1" strike="noStrike">
                <a:solidFill>
                  <a:srgbClr val="000000"/>
                </a:solidFill>
                <a:latin typeface="Calibri"/>
              </a:rPr>
              <a:t>Teaching English Learner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ation of Main Ideas in the Secondary Classroom</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es, according to Delpit, gives students “access to a major medium of power, written language” (54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this brings us back to the idea of explicitness.  Rather than stringing students along in a lesson so that they “discover” the meaning of the lesson at the end, teachers need to be explicit about what they are teaching from the very begin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ation of Main Ideas in the Secondary Classroom</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must also remember that the real point of literacy is to improve students’ communication.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students can communicate, they can participate in the culture of power beyond their classrooms and hom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teachers should keep the “big picture” in mind: nonmainstream students CAN learn, but specialized instruction and attention is necessar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teachers do to ensure that their nonmainstream students acquire the codes of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it be beneficial for EL students to work in groups rather than individu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D.A.I.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A.I.E. also known as Sheltered English is a style of teaching established to provide meaningful instruction in the content area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AIE is important because it allows students to learn English and the content simultaneously.  Students will then be allowed to move forward in their academic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glish is to be acquired through content comprehe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240" y="456840"/>
            <a:ext cx="84582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teacher develops lessons the teacher tries to include </a:t>
            </a:r>
            <a:r>
              <a:rPr b="0" lang="en-US" sz="2200" spc="-1" strike="noStrike">
                <a:solidFill>
                  <a:srgbClr val="ff0000"/>
                </a:solidFill>
                <a:latin typeface="Calibri"/>
              </a:rPr>
              <a:t>hands-on-activities</a:t>
            </a:r>
            <a:r>
              <a:rPr b="0" lang="en-US" sz="2200" spc="-1" strike="noStrike">
                <a:solidFill>
                  <a:srgbClr val="000000"/>
                </a:solidFill>
                <a:latin typeface="Calibri"/>
              </a:rPr>
              <a:t>, </a:t>
            </a:r>
            <a:r>
              <a:rPr b="0" lang="en-US" sz="2200" spc="-1" strike="noStrike">
                <a:solidFill>
                  <a:srgbClr val="ff0000"/>
                </a:solidFill>
                <a:latin typeface="Calibri"/>
              </a:rPr>
              <a:t>guarded vocabulary</a:t>
            </a:r>
            <a:r>
              <a:rPr b="0" lang="en-US" sz="2200" spc="-1" strike="noStrike">
                <a:solidFill>
                  <a:srgbClr val="000000"/>
                </a:solidFill>
                <a:latin typeface="Calibri"/>
              </a:rPr>
              <a:t>, </a:t>
            </a:r>
            <a:r>
              <a:rPr b="0" lang="en-US" sz="2200" spc="-1" strike="noStrike">
                <a:solidFill>
                  <a:srgbClr val="ff0000"/>
                </a:solidFill>
                <a:latin typeface="Calibri"/>
              </a:rPr>
              <a:t>cooperative learning </a:t>
            </a:r>
            <a:r>
              <a:rPr b="0" lang="en-US" sz="2200" spc="-1" strike="noStrike">
                <a:solidFill>
                  <a:srgbClr val="000000"/>
                </a:solidFill>
                <a:latin typeface="Calibri"/>
              </a:rPr>
              <a:t>and </a:t>
            </a:r>
            <a:r>
              <a:rPr b="0" lang="en-US" sz="2200" spc="-1" strike="noStrike">
                <a:solidFill>
                  <a:srgbClr val="ff0000"/>
                </a:solidFill>
                <a:latin typeface="Calibri"/>
              </a:rPr>
              <a:t>visual cue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Hand-on activities:</a:t>
            </a:r>
            <a:r>
              <a:rPr b="0" lang="en-US" sz="2200" spc="-1" strike="noStrike">
                <a:solidFill>
                  <a:srgbClr val="000000"/>
                </a:solidFill>
                <a:latin typeface="Calibri"/>
              </a:rPr>
              <a:t> engage the learner in meaningful experiences. For example having students reenact a scene from a play.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Guarded Vocabulary:</a:t>
            </a:r>
            <a:r>
              <a:rPr b="0" lang="en-US" sz="2200" spc="-1" strike="noStrike">
                <a:solidFill>
                  <a:srgbClr val="000000"/>
                </a:solidFill>
                <a:latin typeface="Calibri"/>
              </a:rPr>
              <a:t>  a wide assortment of teacher behaviors surrounding language.  The teacher is conscious of the words that are used and how they are introduced.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Cooperative learning:</a:t>
            </a:r>
            <a:r>
              <a:rPr b="0" lang="en-US" sz="2200" spc="-1" strike="noStrike">
                <a:solidFill>
                  <a:srgbClr val="000000"/>
                </a:solidFill>
                <a:latin typeface="Calibri"/>
              </a:rPr>
              <a:t> takes advantage of the student’s strengths and builds upon student weaknesses. For example  Having students in small groups or pairs can result in a reduced stress environmen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Visual cues: </a:t>
            </a:r>
            <a:r>
              <a:rPr b="0" lang="en-US" sz="2200" spc="-1" strike="noStrike">
                <a:solidFill>
                  <a:srgbClr val="000000"/>
                </a:solidFill>
                <a:latin typeface="Calibri"/>
              </a:rPr>
              <a:t>provide a visual way to describe key words and concepts. For example:  pictures, models, gestures, and body language.  A teacher can also build a Word Wall with common vocabulary accompanied with a pictur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4" name=""/>
          <p:cNvSpPr txBox="1"/>
          <p:nvPr/>
        </p:nvSpPr>
        <p:spPr>
          <a:xfrm>
            <a:off x="380880" y="0"/>
            <a:ext cx="8382240" cy="597384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versity, Second Language Acquisition, and SDAIE</a:t>
            </a:r>
            <a:endParaRPr b="0" lang="en-US" sz="3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Language Acquisition Theory:  Provides understandable and meaningful language, which then provides a low stress environment.  There is little emphasis on error correction and grammar. Also it utilizes student skills in the student’s first language (L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echniques that can be used to Achieve comprehensible Inpu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ua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s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aking slo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 and Revie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e syntax</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high frequency vocabula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tain a low student anxiety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affolding</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is is important because many English learners may need assistance in comprehending key concepts in a lesson.  Scaffolding allows the student to receive guidance from the teacher.  Here are some ways to use scaffolding in the classroom. </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deling</a:t>
            </a:r>
            <a:r>
              <a:rPr b="0" lang="en-US" sz="2200" spc="-1" strike="noStrike">
                <a:solidFill>
                  <a:srgbClr val="000000"/>
                </a:solidFill>
                <a:latin typeface="Calibri"/>
              </a:rPr>
              <a:t>:  actually showing students how to do a process or activity</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Bridging:</a:t>
            </a:r>
            <a:r>
              <a:rPr b="0" lang="en-US" sz="2200" spc="-1" strike="noStrike">
                <a:solidFill>
                  <a:srgbClr val="000000"/>
                </a:solidFill>
                <a:latin typeface="Calibri"/>
              </a:rPr>
              <a:t> makes the lesson relevant through personal experiences</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chema-Building</a:t>
            </a:r>
            <a:r>
              <a:rPr b="0" lang="en-US" sz="2200" spc="-1" strike="noStrike">
                <a:solidFill>
                  <a:srgbClr val="000000"/>
                </a:solidFill>
                <a:latin typeface="Calibri"/>
              </a:rPr>
              <a:t> the use of graphic organizers to compare and contrast or cluster concepts.</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ta-cognitive development</a:t>
            </a:r>
            <a:r>
              <a:rPr b="0" lang="en-US" sz="2200" spc="-1" strike="noStrike">
                <a:solidFill>
                  <a:srgbClr val="000000"/>
                </a:solidFill>
                <a:latin typeface="Calibri"/>
              </a:rPr>
              <a:t>:  Student realizes how they gain knowledge.  Thinking aloud.</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ontextualization</a:t>
            </a:r>
            <a:r>
              <a:rPr b="0" lang="en-US" sz="2200" spc="-1" strike="noStrike">
                <a:solidFill>
                  <a:srgbClr val="000000"/>
                </a:solidFill>
                <a:latin typeface="Calibri"/>
              </a:rPr>
              <a:t>:  This helps make content meaningfu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 Conversation with Lisa Delpit”</a:t>
            </a:r>
            <a:br>
              <a:rPr sz="4000"/>
            </a:br>
            <a:r>
              <a:rPr b="0" lang="en-US" sz="4000" spc="-1" strike="noStrike">
                <a:solidFill>
                  <a:srgbClr val="000000"/>
                </a:solidFill>
                <a:latin typeface="Calibri"/>
              </a:rPr>
              <a:t>Main Ideas</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must be </a:t>
            </a:r>
            <a:r>
              <a:rPr b="1" lang="en-US" sz="3200" spc="-1" strike="noStrike">
                <a:solidFill>
                  <a:srgbClr val="000000"/>
                </a:solidFill>
                <a:latin typeface="Calibri"/>
              </a:rPr>
              <a:t>explicit</a:t>
            </a:r>
            <a:r>
              <a:rPr b="1" i="1" lang="en-US" sz="3200" spc="-1" strike="noStrike">
                <a:solidFill>
                  <a:srgbClr val="000000"/>
                </a:solidFill>
                <a:latin typeface="Calibri"/>
              </a:rPr>
              <a:t> </a:t>
            </a:r>
            <a:r>
              <a:rPr b="0" lang="en-US" sz="3200" spc="-1" strike="noStrike">
                <a:solidFill>
                  <a:srgbClr val="000000"/>
                </a:solidFill>
                <a:latin typeface="Calibri"/>
              </a:rPr>
              <a:t>with their instruction.  They need to demonstrate to their nonmainstream students that there are differences between standard English and their nonstandard diale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does not mean that students cannot be taught in their own dialects.  Students need </a:t>
            </a:r>
            <a:r>
              <a:rPr b="1" lang="en-US" sz="3200" spc="-1" strike="noStrike">
                <a:solidFill>
                  <a:srgbClr val="000000"/>
                </a:solidFill>
                <a:latin typeface="Calibri"/>
              </a:rPr>
              <a:t>comprehensible input</a:t>
            </a:r>
            <a:r>
              <a:rPr b="0" lang="en-US" sz="3200" spc="-1" strike="noStrike">
                <a:solidFill>
                  <a:srgbClr val="000000"/>
                </a:solidFill>
                <a:latin typeface="Calibri"/>
              </a:rPr>
              <a:t>, which is any form of language that they can underst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 Conversation with Lisa Delpit”</a:t>
            </a:r>
            <a:br>
              <a:rPr sz="4000"/>
            </a:br>
            <a:r>
              <a:rPr b="0" lang="en-US" sz="4000" spc="-1" strike="noStrike">
                <a:solidFill>
                  <a:srgbClr val="000000"/>
                </a:solidFill>
                <a:latin typeface="Calibri"/>
              </a:rPr>
              <a:t>Main Idea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nally, teachers need to teach students, not a particular curriculum.  Teachers must enter into an </a:t>
            </a:r>
            <a:r>
              <a:rPr b="1" lang="en-US" sz="3000" spc="-1" strike="noStrike">
                <a:solidFill>
                  <a:srgbClr val="000000"/>
                </a:solidFill>
                <a:latin typeface="Calibri"/>
              </a:rPr>
              <a:t>open dialogue </a:t>
            </a:r>
            <a:r>
              <a:rPr b="0" lang="en-US" sz="3000" spc="-1" strike="noStrike">
                <a:solidFill>
                  <a:srgbClr val="000000"/>
                </a:solidFill>
                <a:latin typeface="Calibri"/>
              </a:rPr>
              <a:t>with students and parents.  This way, teachers can know what their students n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pending on students’ linguistic background and their prior knowledge, different students will require different kinds of instruction.  It is up to the teacher to provide this </a:t>
            </a:r>
            <a:r>
              <a:rPr b="1" lang="en-US" sz="3000" spc="-1" strike="noStrike">
                <a:solidFill>
                  <a:srgbClr val="000000"/>
                </a:solidFill>
                <a:latin typeface="Calibri"/>
              </a:rPr>
              <a:t>specialized instruction</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are these main ideas importan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isa Delpit’s ideas have critical ramifications for teachers of nonmainstream studen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nce we will all be teaching in Southern California, we will all be teaching nonmainstream stud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future teachers, we should remember that students will not enter our classrooms at the same level of English.  We will have to break through language barriers and impart knowledge of standard Englis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mportantly, we have to make sure that students know that mastering standard English will empower them; they will be able to participate in the culture of power and be able to make independent choic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ation of Main Ideas in the Secondary Classroom</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should be aware that their nonmainstream students will need specialized instruction.  By grouping together students from similar linguistic backgrounds, they can help lessen the anxiety of nonmainstream stud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should use Delpit’s idea of </a:t>
            </a:r>
            <a:r>
              <a:rPr b="1" lang="en-US" sz="3000" spc="-1" strike="noStrike">
                <a:solidFill>
                  <a:srgbClr val="000000"/>
                </a:solidFill>
                <a:latin typeface="Calibri"/>
              </a:rPr>
              <a:t>strategies</a:t>
            </a:r>
            <a:r>
              <a:rPr b="0" lang="en-US" sz="3000" spc="-1" strike="noStrike">
                <a:solidFill>
                  <a:srgbClr val="000000"/>
                </a:solidFill>
                <a:latin typeface="Calibri"/>
              </a:rPr>
              <a:t>: “processes or procedures that literate people consciously control which enable them to comprehend and compose text” (54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20:08:01Z</dcterms:created>
  <dc:creator>Ricardo Romo</dc:creator>
  <dc:description/>
  <dc:language>en-US</dc:language>
  <cp:lastModifiedBy>Ricardo Romo</cp:lastModifiedBy>
  <dcterms:modified xsi:type="dcterms:W3CDTF">2010-06-30T07:27:28Z</dcterms:modified>
  <cp:revision>11</cp:revision>
  <dc:subject/>
  <dc:title>Slide 1</dc:title>
</cp:coreProperties>
</file>